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DB59-602E-4840-8E4B-05DABAF56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643F-DBD5-42DA-8332-05FBDE7B1A38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9BC-CDB5-4FAE-BECD-F12E115B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5F7-93A8-4BA8-90AF-9239150C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E21-3FC0-4098-9BDA-68C6AC36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47D-6856-401A-BD3E-29298F8E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CE32-43C2-42CA-ADE7-F4647942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DE36-B4A1-49B5-BCDE-74FF67A0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32FA-3D9F-477B-A0AF-0480BA9F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10A-775A-4705-A8C7-2F588767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55A6-3FA1-4FCE-8848-BBC43ED9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AD9A-D4E8-47BF-B04F-1E2625F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9B4B-8184-4809-82A7-AE51BDB6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131-7CFB-445A-915F-3D51B524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033F-049F-49A7-A623-C74637F1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72D7-457C-4937-BFA4-F75D189B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568C-61A5-489A-A0F5-EE886B40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3BEA-F175-4009-8C4F-48C1E9F2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41E7-CAA5-4AA2-8AF8-D94B471D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D08-2D0B-4366-966F-2A6EF7B7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DAF-3833-44C3-A560-B47A25FA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9D2-5FA7-414F-A51B-70E5221D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694-F657-4180-A9C8-847172D1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14B-EBA6-4031-89C8-379E60F4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785-224D-48FA-8427-F6517A8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834-1FD7-41EB-95B7-C3FEB38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01B9-7667-4EE9-B130-EED90D4EA5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EC1A-7F23-495B-8980-0742CADCE7D7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C162-CE14-4E2E-90BF-F5BE8F5E3C4B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Hunter “Rey” Flesch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6A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El 13 de mayo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016760" y="554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1523880" y="457200"/>
            <a:ext cx="583272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Year Long Spanish Portfolio!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3"/>
          <a:stretch/>
        </p:blipFill>
        <p:spPr>
          <a:xfrm>
            <a:off x="2895480" y="4162320"/>
            <a:ext cx="31878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3947-F599-4C4D-9AD9-A83E14CCF92C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Prueba de Vocabulario #1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I chose this artifact because it shows I understand simple words and their meanings and also shows how I have grown from just knowing a few words to knowing many words and actually having a small conversation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A35E-D920-4C8F-A8E9-E434A556CC52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2286000" y="2590920"/>
            <a:ext cx="4146480" cy="24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ARTER 2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158B-3379-4094-8D12-AAC54BDF94D7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2nd Quarter Goal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1st: Improve spelling words each quiz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2nd: Be able to understand Spanish paragraph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3rd: Carry out a conversation in Spanish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eflection:</a:t>
            </a:r>
            <a:r>
              <a:rPr b="0" lang="en-US" sz="25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I am doing very well with each of these goals. I have learned likes and dislikes, things that describe someone, and how to ask what someone likes to do/what they are like..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I think I should modify the 2nd and 3rd goals because I think that I have proved to myself that I can carry out a simple conversation and have been able to understand paragraphs in spanish.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Revised Goals: 1st: Improve spelling words each quiz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2nd: Improve writing words on timed writing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efefe"/>
                </a:solidFill>
                <a:latin typeface="Arial"/>
              </a:rPr>
              <a:t>3rd: Be able to read a small story with few errors.</a:t>
            </a: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131A-8272-415B-9060-7F3D4A7C9A8E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Mad Hot Ballroom-Cultural Artifact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This artifact is a cultural artifact. I chose to include it because I think it shows something new that I learned about things that are important to the Spanish culture. Mad Hot Ballroom is a Spanish video about kids in school that are put into a dancing class. I completed this activity by watching the video and answering the questions about it. This demonstrates my learning because it shows that I have learned that dancing is an important aspect in the Spanish culture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2715-221B-443B-8535-FAE729E94255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Cuento Progresivo-Growth Artifact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This artifact is a growth artifact. I chose to include this artifact because it demonstrates how far I have come since the beginning of the year in Espanol 1. Cuento Progresivo is a story the class has been writing for a day an a half. I completed this by contributing a sentence that would go well into the story and by finishing the story on my own. This shows my learning in spanish class because I am now able to write a short simple story in spanish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094B-E09A-4B21-8C43-89D9E8E86D56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Episodio 6 Translation- Reading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This artifact is a reading artifact. This artifact is included because it shows my ability to read and translate Spanish. The Episodios we have been reading for a while and we specifically had to translate the 6th episode which was how I completed this. This translation shows my ability to read Spanish and comprehend it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75AF-4ACF-433A-A175-C1F168DC6198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Mis entrevistas-Speaking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Mis entrevistas is a speaking artifact. I chose to include this artifact because it is a simple way to show my ability to speak in Spanish. Mis  entrevistas was a speed dating activity where we had to find out more about someone by asking them questions. I completed this activity by asking questions and writing down the answers in Spanish on a small sheet. This represents my learning in Spanish class because I am able to ask questions and carry out conversations in spanish to find more about people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EF74-9787-4129-A16C-8B441698D081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Poema yo-Writing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oema yo is a writing artifact. I chose to include this artifact because it demonstrates my ability to write in Spanish. For this assignment, we had to write a poem about ourselves and what we do and don’t like to do; we also had to use things that described us and didn’t describe us. I completed this activity by writing the poem and using pictures to represent the adjectives and things I like to do. This demonstrates my ability to write in Spanish because I can now write poems and stories using the things I have learned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0602-1927-48DF-8A93-A03B36393C9B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2362320" y="2590920"/>
            <a:ext cx="4495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ARTER 3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CE02-8589-44A8-B162-C354F28898A5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Goal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1st: Improve spelling words each quiz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2nd: Be able to understand Spanish paragraphs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3rd: Carry out a conversation in Spanish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eflection: I have been working on these goals each class period. I have learned new pronouns and how to use proper verb endings. I believe that I have been able to accomplish the 2nd goal and have come close to the 1st and 3rd goal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Goals: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2nd Goal: Be able to begin reading simple stories in Spanish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E120-6E36-4171-BE2D-1D0CE69BF869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Table of Content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: Title Page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2: Table of Content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3: Quarter 1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4: Qrt 1 Goal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5: Qrt 1 Goals Reflection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6: Qrt 1 Strategie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7-10: Qrt 1 Artifact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1: Quarter 2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2: Qrt 2 Goal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3-17: Qrt 2 Artifacts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Pg 18: Quarter 3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19: Qrt 3 Goal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0-24: Qrt 3 Artifact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5: Quarter 4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6-27: Artifact #1 and #2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8: Entire Year Goal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29: Reflection of Goal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30: Reflection of Strategie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31: Activite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32: Meaningful Experience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g 33: Future Goal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15CC-8D7A-4F39-9B49-EAEFC456B208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peaking Artifact: Pasaporte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 included this artifact because it is proof that I can speak spanish and talk to multiple people and hold a conversation with them. The pasaporte serves as a speaking activity where you were to go around school talking to teachers in Spanish and getting their signatures. I would have talked to more teachers if I could have redone this assignment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F9F-2365-4151-B778-C7E98EB3B7AE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efe"/>
                </a:solidFill>
                <a:latin typeface="Arial"/>
              </a:rPr>
              <a:t>Cultural Artifact: Country Activity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I included this artifact because it shows the cultural aspects that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we learn in spanish. I was assigned to a country that was given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certain supplies according to location. This acts like actual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countries in the world today which helps show how the cultures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are different based off of the money and different supplies they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have. I would have liked a better country because my country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had one of the worst supplies out of all the countries. This helps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show that I have learned that cultures can be based off of what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a country has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40B2-7BCB-4BA7-9FB3-5D575BFF45D6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Reading Artifact: “La Calculadora”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I chose to include this artifact because this shows my ability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o read in Spanish and to comprehend it. “La Calculadora” is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a song that is about a girl discovering how to pass math by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using a calculator. There is a lot of vocabulary that I learned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hrough reading these song lyrics. We had to sing the song and 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hen go through it and find cognates to the English language. I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wouldn’t have done anything different for this artifact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7CA3-5800-4518-9688-19FA53CDC059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Original Writing: Thank You Letter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I included this artifact because it demonstrates my ability to write in Spanish. To complete this assignment we had to write a letter to our favorite teacher and tell them why they were our favorite teacher. I wrote my letter to Mr. Huth. This was a good opportunity to use the Spanish that I have learned and use it in a letter. I wouldn’t change anything about this artifact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9471-BEEA-40A0-BB70-807B72EF5058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Growth Artifact: Pepe el desordenado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Impact"/>
              </a:rPr>
              <a:t>I chose to include this artifact because I think it demonstrates well my growth in Spanish class. Pepe el desordenado is a story that we began reading in class but then had to translate on our owns when Sra. Baedke was absent. I translated basically everything right. If I  could change one thing I would change the parts that I messed up on, which I now understand. This artifact ultimately was a good indicator  of how much I have learned this year in Spanish and how I have grown as a Spanish speaker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16B7-FF92-403D-A34B-2B6778AF2BE2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2209680" y="2209680"/>
            <a:ext cx="449604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ARTER 4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BFAC-274A-4086-A0F7-787058A91F36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Artifact #1 - Family Presentation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efe"/>
                </a:solidFill>
                <a:latin typeface="Arial"/>
              </a:rPr>
              <a:t>This artifact is a speaking artifact. I chose to include this artifact because it demonstrates very well my overall growth as a Spanish speaker. I know enough Spanish now that I am able to present information in front of a class. If I had to change one thing, it would be my mistakes on the endings of some words (herman</a:t>
            </a:r>
            <a:r>
              <a:rPr b="1" lang="en-US" sz="2600" spc="-1" strike="noStrike" u="sng">
                <a:solidFill>
                  <a:srgbClr val="fefefe"/>
                </a:solidFill>
                <a:uFillTx/>
                <a:latin typeface="Arial"/>
              </a:rPr>
              <a:t>o</a:t>
            </a:r>
            <a:r>
              <a:rPr b="0" lang="en-US" sz="2600" spc="-1" strike="noStrike">
                <a:solidFill>
                  <a:srgbClr val="fefefe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fefefe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1752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6302-267A-4F3A-B3F5-2864598D95CC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Artifact #2 - Pobre Ana Quizzes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This artifact is a collection of quizzes that is a reading artifact. I chose to include these quizzes because it shows my ability to read Spanish and comprehend it. It shows all of the vocabulary I have learned as well. If I were able to change one thing, I would have studied more over the vocabulary to score better on a couple of quizze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324480" y="4267080"/>
            <a:ext cx="17528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1BAE-D1CA-4F75-8489-2468172D4ADA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dfd"/>
                </a:solidFill>
                <a:latin typeface="Arial"/>
              </a:rPr>
              <a:t>Entire Year - Goals</a:t>
            </a:r>
            <a:endParaRPr b="1" lang="en-US" sz="4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fefe"/>
                </a:solidFill>
                <a:uFillTx/>
                <a:latin typeface="Arial"/>
              </a:rPr>
              <a:t>Quarter 1</a:t>
            </a: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: Pronounce 85% of words correctly. Improve spelling words each quiz. Have a conversation without any specific things to say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fefe"/>
                </a:solidFill>
                <a:uFillTx/>
                <a:latin typeface="Arial"/>
              </a:rPr>
              <a:t>Quarter 2</a:t>
            </a: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: Improve spelling words each quiz. Improve writing words on timed writing. Be able to read a small story with few errors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fefe"/>
                </a:solidFill>
                <a:uFillTx/>
                <a:latin typeface="Arial"/>
              </a:rPr>
              <a:t>Quarter 3</a:t>
            </a: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: Improve spelling words each quiz. Be able to understand Spanish paragraphs. Carry out a good conversation in Spanish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efefe"/>
                </a:solidFill>
                <a:uFillTx/>
                <a:latin typeface="Arial"/>
              </a:rPr>
              <a:t>Quarter 4</a:t>
            </a: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: Improve spelling words each quiz. Be able to begin reading simple stories in Spanish. Carry out a good conversation in Spanish.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83E7-7108-4FDB-A25B-9C35FEB55E38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dfd"/>
                </a:solidFill>
                <a:latin typeface="Arial"/>
              </a:rPr>
              <a:t>Reflection of Goals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fefe"/>
                </a:solidFill>
                <a:uFillTx/>
                <a:latin typeface="Arial"/>
              </a:rPr>
              <a:t>Quarter 1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: I was able to complete the 1st and 3rd goal right away which helped me strive forward in Spanish.  The 2nd goal, spelling words, is an ongoing goal that I continue to work on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fefe"/>
                </a:solidFill>
                <a:uFillTx/>
                <a:latin typeface="Arial"/>
              </a:rPr>
              <a:t>Quarter 2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: Again, I am still working on spelling words as a goal. I wanted to try and improve my timed writing but I don’t believe we ever did another one. I was able to read a small story, Felipe, with few errors on the test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fefe"/>
                </a:solidFill>
                <a:uFillTx/>
                <a:latin typeface="Arial"/>
              </a:rPr>
              <a:t>Quarter 3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: I am continuing to get better at spelling words. I was able to read Spanish paragraphs with no mistakes at all which is a giant leap as a Spanish speaker for me. I am now able to carry out a good conversation with maybe an error or two but less than when I first started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fefe"/>
                </a:solidFill>
                <a:uFillTx/>
                <a:latin typeface="Arial"/>
              </a:rPr>
              <a:t>Quarter 4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: Lastly with the same goal of continuing to spell words better, my greatest goal this year was to read a simple story in Spanish and I have done it by reading “Pobre Ana”. I am also now able to carry out a good conversation because of the practice and new vocabulary I have obtained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B013-E2ED-48C0-8526-DF1218E5CA8F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2362320" y="2743200"/>
            <a:ext cx="4120920" cy="20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ARTER 1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AF6F-B4A3-4B97-888D-6AFE1C0D8E72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Reflection of Strategies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Listening: To listen to everyone’s questions and learn from them. Usually I had the same questions as other people.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Speaking: To think about what the word meant and see if it made sense, then ask a question if it still didn’t make sense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Reading: If I didn’t understand something, I would look for context clues to help me figure it out which helped me study. Then I would ask a question if I still didn’t understand it.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Writing: To write the word according to which vowel I heard and then just go from there. It ended up helping me study and help me learn vocabulary.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efefe"/>
                </a:solidFill>
                <a:latin typeface="Arial"/>
              </a:rPr>
              <a:t>All of these strategies helped me study in class, but they also helped me study outside of class. Once I would learn something new, I would write it down and then be able to study it, practice it, and then memorize it.</a:t>
            </a:r>
            <a:endParaRPr b="0" lang="en-US" sz="19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3225-58A6-44EF-8E7A-F407CE399ECC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Activitie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One of the activities I enjoyed the most was the Pig game. It was fun and easy and it tested your knowledge of vocabulary. You would also know which specific words you needed to study. I also enjoyed dancing, mostly because I like dancing, but I also learned a bit about the Spanish culture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735D-96BD-40F6-8D8D-065292F3C322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Meaningful Experience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efe"/>
                </a:solidFill>
                <a:latin typeface="Arial"/>
              </a:rPr>
              <a:t>The most meaningful experience I had in Spanish this year would have been the time I failed my first vocabulary quiz. It showed me that Spanish would not be an easy course to pass. It would take a lot of effort in practice in order to pass. Now I just need to finish off the year strong.</a:t>
            </a:r>
            <a:endParaRPr b="0" lang="en-US" sz="3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7F0F-C7F0-4833-ADD7-3F48CA374FE3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fdfd"/>
                </a:solidFill>
                <a:latin typeface="Arial"/>
              </a:rPr>
              <a:t>Future Goals</a:t>
            </a:r>
            <a:endParaRPr b="1" lang="en-US" sz="32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My future goal in Spanish is to complete 4 years of Spanish class. Another goal is to continue learning so I am able to understand people who are native speakers. My last goal is to read a somewhat long book in Spanish. Those 3 goals would show how far I have gone in 4 years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8E0A-C9C9-45BE-B6FC-E2BD01CF54C4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Goal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onounce 85% of words correctly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mprove spelling words each quiz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Have a conversation without any specific things given to say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E920-6CB8-493C-85E9-558353A5DA29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ight now I have completed the first goal. Goals I should keep are the 3rd goal which is to carry out a conversation and the 2nd goal which is improve spelling words each quiz. 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 have learned numbers 1-199, temperatures, telling time, and many words and command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1st Goal: To be able to understand Spanish paragraphs in English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059560" y="304920"/>
            <a:ext cx="48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Reflection of Goals. Qrt. 1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6E87-91DB-4098-8F72-21402CF88323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trategie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actice with family/friends outside of clas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ut words in Spanish into situations outside of clas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actice writing words and sentence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Study quizzes to see what words I need to improve on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actice saying single words at a time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Ask for help and check with the teacher to see if I am pronouncing words correctly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B46C-BF48-40DB-9A56-F7BAB1FAF0DD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Artifact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ueba de los numeros- 10/10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(Listening)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(Writing) 5/5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Episodio Uno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(Reading)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Prueba de Vocabulario #1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(Growth)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019920" y="228600"/>
            <a:ext cx="292104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3581280" y="2362320"/>
            <a:ext cx="2616480" cy="163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6477120" y="2209680"/>
            <a:ext cx="2108160" cy="207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4"/>
          <a:stretch/>
        </p:blipFill>
        <p:spPr>
          <a:xfrm>
            <a:off x="4876920" y="4267080"/>
            <a:ext cx="331452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8A12-89BE-4547-BE36-AE109B4F832C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Prueba de los numero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 added this artifact because it shows that I can listen well and write the right answer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 also added this artifact because It shows I can write the numbers we learned correctly. I am very happy with this quiz and I will continue to improve as we learn more words and number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5329-BF38-4D5A-BCF4-DEB45B506E80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Episodio Uno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I chose this artifact because it shows that I can read simple Spanish paragraphs for the most part. I can definitely work on understanding each word and its meaning. I will do this by continuing to ask questions in class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22:05:35Z</dcterms:created>
  <dc:creator>Bill Flesch</dc:creator>
  <dc:description/>
  <dc:language>en-US</dc:language>
  <cp:lastModifiedBy>WCSD</cp:lastModifiedBy>
  <dcterms:modified xsi:type="dcterms:W3CDTF">2011-05-17T00:35:35Z</dcterms:modified>
  <cp:revision>26</cp:revision>
  <dc:subject/>
  <dc:title>PowerPoint Presentation</dc:title>
</cp:coreProperties>
</file>